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FC55-05E3-4A0E-AF55-E44DC238E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D648-B1BE-4FAC-9AE3-745321ED3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4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6427-3CAA-455C-B8BD-9D2BDB906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75256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0020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92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75256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20020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CD47-459F-4F5C-9566-FE0C0A7E2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0830-7771-41C0-B09A-F60F9D47A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7227-3401-4956-B5B7-DC56095E7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14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8911-BB49-405B-83E8-DD71D3B2A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911F-03C8-4289-9210-90A431F87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001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9B5D-63E6-4E22-9747-AC1157647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14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5392-56F9-4BA9-BA25-A28C65BF1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14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14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AF60-42FF-483F-AE45-09580987E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9129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4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B3BD-69D6-4CF1-AC3E-12C623FD0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hyperlink" Target="http://www.lido.dist.unige.it/lido.html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www.lido.dist.unige.it/lido.html" TargetMode="External"/><Relationship Id="rId7" Type="http://schemas.openxmlformats.org/officeDocument/2006/relationships/image" Target="../media/image3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123840"/>
          <a:ext cx="9144000" cy="661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3840"/>
                    <a:ext cx="9144000" cy="66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.NET Tuto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4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5714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511D-7721-4E4F-8090-0834C614E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40132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LidoPlastiCube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6172200"/>
            <a:ext cx="520920" cy="536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700360" y="30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L_lido" descr="Laboratorio Informatica DIST Siemens-ORSI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62120" y="6172200"/>
            <a:ext cx="2514600" cy="54936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6019920"/>
            <a:ext cx="9144000" cy="75960"/>
          </a:xfrm>
          <a:prstGeom prst="rect">
            <a:avLst/>
          </a:prstGeom>
          <a:gradFill rotWithShape="0">
            <a:gsLst>
              <a:gs pos="0">
                <a:srgbClr val="f1bebe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gradFill rotWithShape="0">
            <a:gsLst>
              <a:gs pos="0">
                <a:srgbClr val="f1bebe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" name=""/>
          <p:cNvGraphicFramePr/>
          <p:nvPr/>
        </p:nvGraphicFramePr>
        <p:xfrm>
          <a:off x="8001000" y="46080"/>
          <a:ext cx="1143000" cy="68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001000" y="46080"/>
                    <a:ext cx="11430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rebuchet MS"/>
              </a:rPr>
              <a:t>.NET Tutorial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rlo Becch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rlo.becchi@iol.i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FF75-C0BB-4FFA-91CE-61A41E4B9B5C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LR: Common Language Runtim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Aka CLI: Common Language Infrastructu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ECFB-87A4-4502-A16D-40B515FCE115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Runtim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648320" cy="41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181480" y="1752480"/>
          <a:ext cx="373392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Figure 3 Services Framework Class Libraries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752480"/>
                    <a:ext cx="37339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AA29-65F4-4418-8FCB-82C3E4D6A97E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Runtim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Motore di esecuzione ad elevate prestazio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Strumento di Svilupp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EB8A-5E0F-4EA4-B0B6-11F0D9FDDF95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Runtim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Motore di esecuzione ad elevate prestazio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Gestione della memoria e Garbage Collection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Gestione dei thread e dei servizi del sistema operativo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Gestione della sicurezza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Gestione automatica delle dipendenze da altre component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ompilazione JIT di tutto il codic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5242-0CF6-409C-A567-9F46F4183E1A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Runtim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Strumento di svilupp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ontrollo sui tip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Gestione delle eccezioni interlinguaggio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Accesso facilitato a servizi avanzat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Ambiente di debug unificato per tutti i linguaggi conform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Linguaggi Microsoft inizialmente disponibili : C#, VB.NET, C++ [J#]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FBC9-1ACF-4F40-BE29-CCA42BC406EE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Runtim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Managed Code (Codice Gestito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Tutto il codice aderente alle specifiche del CLR del quale può sfruttare i serviz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odice “Sicuro”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Unmanaged Co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Tutto il resto…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odice “Insicuro” perché scavalca il CLR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CF0B-6B83-4DA7-AA25-8770AC2E1ACA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Runtim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l Common Language Runtime è composto da cinque componenti che sono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TS - </a:t>
            </a:r>
            <a:r>
              <a:rPr b="1" lang="it-IT" sz="2800" spc="-1" strike="noStrike">
                <a:solidFill>
                  <a:srgbClr val="000099"/>
                </a:solidFill>
                <a:latin typeface="Arial Narrow"/>
              </a:rPr>
              <a:t>Common Type System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LS - </a:t>
            </a:r>
            <a:r>
              <a:rPr b="1" lang="it-IT" sz="2800" spc="-1" strike="noStrike">
                <a:solidFill>
                  <a:srgbClr val="000099"/>
                </a:solidFill>
                <a:latin typeface="Arial Narrow"/>
              </a:rPr>
              <a:t>Common Language Specification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IL - </a:t>
            </a:r>
            <a:r>
              <a:rPr b="1" lang="it-IT" sz="2800" spc="-1" strike="noStrike">
                <a:solidFill>
                  <a:srgbClr val="000099"/>
                </a:solidFill>
                <a:latin typeface="Arial Narrow"/>
              </a:rPr>
              <a:t>Common Intermediate Language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JIT- </a:t>
            </a:r>
            <a:r>
              <a:rPr b="1" lang="it-IT" sz="2800" spc="-1" strike="noStrike">
                <a:solidFill>
                  <a:srgbClr val="000099"/>
                </a:solidFill>
                <a:latin typeface="Arial Narrow"/>
              </a:rPr>
              <a:t>Just In Time Compiler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VES – </a:t>
            </a:r>
            <a:r>
              <a:rPr b="1" lang="it-IT" sz="2800" spc="-1" strike="noStrike">
                <a:solidFill>
                  <a:srgbClr val="000099"/>
                </a:solidFill>
                <a:latin typeface="Arial Narrow"/>
              </a:rPr>
              <a:t>Virtual Execution System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0BB2-9578-47D7-A3D6-E6172584EAA5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Runtim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905120"/>
            <a:ext cx="91440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d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B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905120"/>
            <a:ext cx="91440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d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905120"/>
            <a:ext cx="91440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d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J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905120"/>
            <a:ext cx="91440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d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1905120"/>
            <a:ext cx="91440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d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133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819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Compila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819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Compila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819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Compila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819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Compila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J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2819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Compila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581280"/>
            <a:ext cx="3810240" cy="106704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4876920"/>
            <a:ext cx="746748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562720"/>
            <a:ext cx="8077320" cy="3808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istema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514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2514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514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2514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77320" y="2514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5053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429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4320" y="34290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648320"/>
            <a:ext cx="761760" cy="304560"/>
          </a:xfrm>
          <a:prstGeom prst="downArrow">
            <a:avLst>
              <a:gd name="adj1" fmla="val 52500"/>
              <a:gd name="adj2" fmla="val 63542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44B5-C261-40DC-97EE-56AC702A89B5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TS: Common Type System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57AD-2F13-4277-8CB2-40F5A2705E0D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Type System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Sistema di Tipi unificato ed interlinguaggi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Un insieme standard di tipi di dato e di regole necessarie per la realizzazione di nuovi tip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Due Categorie di Tipi disponibili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Value Typ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Reference Typ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43DB-C3EB-4C58-BC11-5953007B08F3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Introduzion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4AFB-B859-4867-9048-8BC42F18C927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Type System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Value Typ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Tipi atomici come integer e char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Divisi in </a:t>
            </a:r>
            <a:r>
              <a:rPr b="0" i="1" lang="it-IT" sz="2800" spc="-1" strike="noStrike">
                <a:solidFill>
                  <a:srgbClr val="000099"/>
                </a:solidFill>
                <a:latin typeface="Arial Narrow"/>
              </a:rPr>
              <a:t>built-in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 ed </a:t>
            </a:r>
            <a:r>
              <a:rPr b="0" i="1" lang="it-IT" sz="2800" spc="-1" strike="noStrike">
                <a:solidFill>
                  <a:srgbClr val="000099"/>
                </a:solidFill>
                <a:latin typeface="Arial Narrow"/>
              </a:rPr>
              <a:t>user defined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Descrivono valori che sono rappresentati come sequenze di bit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Allocati nello Stack del Thread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Non soggetti al Garbage Collector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B190-E680-4DBD-9F4F-A15A9984D6E4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Type System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Reference Typ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Entità autodefinite contententi sia metodi che variabil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Divisi in quattro sottocategorie: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Self Describing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Pointer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Built-in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Descrivono valori che sono rappresentati come la locazione di una sequenza di bit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00A9-83BE-4A4A-A6EF-D046829C5FF3}" type="slidenum">
              <a:t>21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Type System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Reference Typ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Allocati nell’ Heap Gestito (Managed Heap)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Soggetti al Garbage Collector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5233-2691-47CC-99AC-29FDCE594F28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Type System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onversione tra Value e Reference (Boxing e Unboxing) gestito dal C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Regole di Casting gestite dal C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CBF3-EF74-458E-B14B-5ACBE4A9BF4C}" type="slidenum">
              <a:t>23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LS: Common Language Specification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7455-EA41-4620-BCA1-033AE5B63CA1}" type="slidenum">
              <a:t>24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Specification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l CLS definisce un sottoinsieme del Common Type System al quale tutti i fornitori di librerie di classi e progettisti di linguaggi che puntano al CLR, devono aderir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559A-D7EF-4DD3-B90A-8164958A3D15}" type="slidenum">
              <a:t>25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Specification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Se un componente scritto in un linguaggio (ad esempio C#) dovrà essere utilizzato da un altro linguaggio (ad esempio VB.NET), allora chi scrive il componente dovrà aderire ai tipi e alle strutture definite dal CL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Ad esempio, il tipo Int32 è compatibile con il CLS ed i linguaggi e gli strumenti possono aspettarsi che altri linguaggi e strumenti conformi al CLS sappiano come utilizzarlo correttament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7DC0-FE46-4244-BBB9-3E0167F99549}" type="slidenum">
              <a:t>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mmon Language Specification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LS Framewor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Una libreria costituita da codice aderente al CLS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LS Consum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Un linguaggio o tool di sviluppo progettato per accedere a tutte le caratteristiche fornite dai CLS Framework, ma non necessariamente in grado di produrne di nuove.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LS Extend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Superset del CLS Consumer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2931-537F-4125-B2DA-0E136E95C1D6}" type="slidenum">
              <a:t>27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MSIL: Microsoft Intermediate Language 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Aka CIL: Common Intermediate Languag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0138-0010-4158-9DF7-B8EE0C7FC716}" type="slidenum">
              <a:t>28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Intermediate Languag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IL per ECMA,MSIL o IL per Microsof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Tutti i compilatori che aderiscono alla struttura del CLR devono generare un rappresentazione intermedia del codice, </a:t>
            </a:r>
            <a:r>
              <a:rPr b="0" lang="it-IT" sz="2800" spc="-1" strike="noStrike">
                <a:solidFill>
                  <a:srgbClr val="cc0000"/>
                </a:solidFill>
                <a:latin typeface="Arial Narrow"/>
              </a:rPr>
              <a:t>indipendente dalla CPU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, chiamata Common Intermediate Language (CIL). Il runtime utilizza questo linguaggio intermedio per generare codice nativo oppure viene eseguito al volo mediante la compilazione Just In Time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2E2F-40F4-44CA-AF4A-73FEC1E11883}" type="slidenum">
              <a:t>29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Piattaforma .NE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aratteristich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Modello Servizi Web XML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Architettura componentizzata per il Web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Interoperabilità interlinguaggio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Utilizzo di architetture fortemente e debolmente accoppiat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Standard riconosciuti per linguaggio e infrastruttura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XML-centrico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Nuovo modello di sicurezza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39F7-F75D-4078-8235-99F7D2056A99}" type="slidenum">
              <a:t>3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Intermediate Languag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Presenta similitudini con linguaggi ad alto livello, ma anche con il linguaggio assembly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Istruzioni per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il caricamento, la memorizzazione e l’inizializzazione dei dati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richiamare metodi da oggetti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aritmetiche e logich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gestione eccezioni di tipo “Try/Catch”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Operazioni sui registri, ma indipendente dalla piattaforma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Operazioni “atomiche”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605C-1C6B-4522-AC45-B2303283E59C}" type="slidenum">
              <a:t>30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Intermediate Languag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Permette al CLR controlli durante la compilazione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odice Type Saf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Puntatori corrett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onversioni corrett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ecc.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Di fatto rappresenta il linguaggio a livello più basso e l’unico “eseguibile” dal CL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F6DF-2D01-422E-A5ED-BD46DF49D76D}" type="slidenum">
              <a:t>31</a:t>
            </a:fld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Intermediate Languag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Un compilatore conforme al CLS produ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odice IL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Rappresenta il programma vero e proprio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Metadat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Descrivono i tipi specifici appartenenti al Common Language Types (CLT) utilizzati nel codice, comprendente la definizione di ogni tipo, le signature per ogni membro del tipo, i membri ai quali il codice fa riferimento e gli altri dati che il runtime usa durante l’esecuzione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Permettono componenti autodescrittivi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DC9E-7691-4D37-B302-0F1AD4C9283D}" type="slidenum">
              <a:t>32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Intermediate Language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L e Metadati sono alla fine contenuti in uno o più file PE (Portable Executable) nella forma tradizionale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.ex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Se è codice di programma eseguibil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.dll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Se è un insieme di libreri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B7DB-1069-40B7-B467-6854D9545A62}" type="slidenum">
              <a:t>33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: Just In Time Compiler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EDBD-A9D4-42E1-8D71-8CEA056A3AC3}" type="slidenum">
              <a:t>34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ust In Time Compiler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ompilatore al volo basato sul concetto JIT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Non tutto l’IL di un PE viene eseguito durante un programma, solo la parte necessaria viene compilata un istante prima della sua esecuzione.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Il codice compilato viene memorizzato per successive esecuzion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Tutto il codice .NET è compilato JIT, anche linguaggi di scripting come VB Script, J Script, JavaScript ecc.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85FF-154A-4B5B-B206-92783BCCD309}" type="slidenum">
              <a:t>35</a:t>
            </a:fld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43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4343040" y="152280"/>
            <a:ext cx="609840" cy="8381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78560 h 8381880"/>
              <a:gd name="textAreaBottom" fmla="*/ 8203320 h 838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6"/>
                  <a:pt x="10800" y="1471"/>
                </a:cubicBezTo>
                <a:lnTo>
                  <a:pt x="10800" y="9675"/>
                </a:lnTo>
                <a:cubicBezTo>
                  <a:pt x="10800" y="10411"/>
                  <a:pt x="5400" y="11146"/>
                  <a:pt x="0" y="11146"/>
                </a:cubicBezTo>
                <a:cubicBezTo>
                  <a:pt x="5400" y="11146"/>
                  <a:pt x="10800" y="11882"/>
                  <a:pt x="10800" y="12617"/>
                </a:cubicBezTo>
                <a:lnTo>
                  <a:pt x="10800" y="20129"/>
                </a:lnTo>
                <a:cubicBezTo>
                  <a:pt x="10800" y="208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876920"/>
            <a:ext cx="556236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RTABLE EXEC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7161-B4F9-41A0-9C94-F334F6FD119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4343040" y="152280"/>
            <a:ext cx="609840" cy="8381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78560 h 8381880"/>
              <a:gd name="textAreaBottom" fmla="*/ 8203320 h 838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6"/>
                  <a:pt x="10800" y="1471"/>
                </a:cubicBezTo>
                <a:lnTo>
                  <a:pt x="10800" y="9675"/>
                </a:lnTo>
                <a:cubicBezTo>
                  <a:pt x="10800" y="10411"/>
                  <a:pt x="5400" y="11146"/>
                  <a:pt x="0" y="11146"/>
                </a:cubicBezTo>
                <a:cubicBezTo>
                  <a:pt x="5400" y="11146"/>
                  <a:pt x="10800" y="11882"/>
                  <a:pt x="10800" y="12617"/>
                </a:cubicBezTo>
                <a:lnTo>
                  <a:pt x="10800" y="20129"/>
                </a:lnTo>
                <a:cubicBezTo>
                  <a:pt x="10800" y="208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4876920"/>
            <a:ext cx="556236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RTABLE EXEC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981080"/>
            <a:ext cx="1676160" cy="914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1F85-3BC5-493B-9CAE-AF81D2F31585}" type="slidenum">
              <a:t>37</a:t>
            </a:fld>
          </a:p>
        </p:txBody>
      </p:sp>
    </p:spTree>
  </p:cSld>
  <p:transition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62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52480" y="44197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ecu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A47E-FB4E-41A8-9868-59364F38FE23}" type="slidenum">
              <a:t>38</a:t>
            </a:fld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52480" y="44197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ecu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13716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J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F6DA-7123-4301-A4AB-2ECA91221E05}" type="slidenum">
              <a:t>39</a:t>
            </a:fld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rebuchet MS"/>
              </a:rPr>
              <a:t>Piattaforma .NET e Interne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257800" cy="398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F6DD-C3BD-4184-90A6-28E3B29D8262}" type="slidenum">
              <a:t>4</a:t>
            </a:fld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83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52480" y="44197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ecu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EE13-6A82-47CA-8FE6-3AC9D900FB74}" type="slidenum">
              <a:t>40</a:t>
            </a:fld>
          </a:p>
        </p:txBody>
      </p:sp>
    </p:spTree>
  </p:cSld>
  <p:transition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93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52480" y="44197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secu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D466-F120-4C79-AACD-8E88156734A3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2057400"/>
            <a:ext cx="0" cy="914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685A-6485-4AB8-B474-E63EBDE9264B}" type="slidenum">
              <a:t>42</a:t>
            </a:fld>
          </a:p>
        </p:txBody>
      </p:sp>
    </p:spTree>
  </p:cSld>
  <p:transition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12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2057400"/>
            <a:ext cx="0" cy="914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3200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J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33C9-B7A6-4E15-84F2-7D62A5896659}" type="slidenum">
              <a:t>43</a:t>
            </a:fld>
          </a:p>
        </p:txBody>
      </p:sp>
    </p:spTree>
  </p:cSld>
  <p:transition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22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057400"/>
            <a:ext cx="0" cy="914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1125-FB5A-425D-B27F-C6D91BD55339}" type="slidenum">
              <a:t>44</a:t>
            </a:fld>
          </a:p>
        </p:txBody>
      </p:sp>
    </p:spTree>
  </p:cSld>
  <p:transition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32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E8D3-3A97-4BE1-9C6D-F8ED26BE3DE5}" type="slidenum">
              <a:t>45</a:t>
            </a:fld>
          </a:p>
        </p:txBody>
      </p:sp>
    </p:spTree>
  </p:cSld>
  <p:transition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41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5B7C-6A98-4EAC-AFFD-BA1F02BBFE47}" type="slidenum">
              <a:t>46</a:t>
            </a:fld>
          </a:p>
        </p:txBody>
      </p:sp>
    </p:spTree>
  </p:cSld>
  <p:transition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50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C7CE-FAE8-4582-B515-4E70D3DF49B0}" type="slidenum">
              <a:t>47</a:t>
            </a:fld>
          </a:p>
        </p:txBody>
      </p:sp>
    </p:spTree>
  </p:cSld>
  <p:transition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59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6336-A986-441D-A359-F7FF54780006}" type="slidenum">
              <a:t>48</a:t>
            </a:fld>
          </a:p>
        </p:txBody>
      </p:sp>
    </p:spTree>
  </p:cSld>
  <p:transition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68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3200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J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97D4-DB60-4770-AA89-A75697D23C23}" type="slidenum">
              <a:t>49</a:t>
            </a:fld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.NET Framework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DA3D-6F12-49A8-9604-26D668535042}" type="slidenum">
              <a:t>5</a:t>
            </a:fld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78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30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2057400"/>
            <a:ext cx="2438640" cy="914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4CF8-5F2F-437E-B7F4-87733B9374B7}" type="slidenum">
              <a:t>50</a:t>
            </a:fld>
          </a:p>
        </p:txBody>
      </p:sp>
    </p:spTree>
  </p:cSld>
  <p:transition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88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057400"/>
            <a:ext cx="274320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530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1274-8472-492F-8D7B-A4CDCC33A3CF}" type="slidenum">
              <a:t>51</a:t>
            </a:fld>
          </a:p>
        </p:txBody>
      </p:sp>
    </p:spTree>
  </p:cSld>
  <p:transition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297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2057400"/>
            <a:ext cx="274320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5ACB-FE8A-474A-AEB6-10A2C2652F33}" type="slidenum">
              <a:t>52</a:t>
            </a:fld>
          </a:p>
        </p:txBody>
      </p:sp>
    </p:spTree>
  </p:cSld>
  <p:transition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06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057400"/>
            <a:ext cx="2743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A065-E7ED-44D8-BC2D-FC603C8E1EB3}" type="slidenum">
              <a:t>53</a:t>
            </a:fld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15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057400"/>
            <a:ext cx="2743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6535-17F2-4D29-9DB7-074770806FBB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24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2880" y="2057400"/>
            <a:ext cx="2743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530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DE39-CEE1-469F-BC62-8E4B05A1CD77}" type="slidenum">
              <a:t>55</a:t>
            </a:fld>
          </a:p>
        </p:txBody>
      </p:sp>
    </p:spTree>
  </p:cSld>
  <p:transition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1067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IT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33" name=""/>
          <p:cNvSpPr/>
          <p:nvPr/>
        </p:nvSpPr>
        <p:spPr>
          <a:xfrm>
            <a:off x="3579840" y="12952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try Point /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3124080"/>
            <a:ext cx="24400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tod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133720" y="20574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2057400"/>
            <a:ext cx="2743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7440" y="2117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4191120"/>
            <a:ext cx="2440080" cy="687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od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DICE MAC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6134-95A2-48A6-90AD-03A159C63C96}" type="slidenum">
              <a:t>56</a:t>
            </a:fld>
          </a:p>
        </p:txBody>
      </p:sp>
    </p:spTree>
  </p:cSld>
  <p:transition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Just In Time Compiler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Solo il codice usato verrà compila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Minore occupazione di memori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Facile rimozione del codice inutilizzato da temp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Controlli sull’IL in fase di compilazio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Dati per la compilazione contenuti nello stesso file del codice (metadati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Compilazione ottimizzante perché conosce lo stato preciso dell’ambiente di esecuzio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C061-F221-4CF8-926A-230ED9F0D13E}" type="slidenum">
              <a:t>57</a:t>
            </a:fld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VES: Virtual Execution System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E620-2000-48FE-80BE-02A9B5C7E3F4}" type="slidenum">
              <a:t>58</a:t>
            </a:fld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Virtual Execution System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E’ l’ambiente di esecuzione (macchina virtuale) del CL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Il VES carica, realizza i link ed esegue i programmi scritti per il Common Language Runtime contenuti nei file Portable Executable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Il VES adempie alle sue funzioni di Loader utilizzando le informazioni contenute nei metadati ed utilizza late binding per integrare moduli compilati separatamente, che possono essere anche scritti in linguaggi differenti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B099-CF32-4D5A-8618-BD26AB40A418}" type="slidenum">
              <a:t>59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.NET Framework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fondamenta dell’architettura .N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Sistema di sviluppo unificato e standard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C# e CLI certificati ECMA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Sviluppo in collaborazione con HP e Intel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Supporto per qualunque linguaggio di programmazion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Conservazione del know-how esistente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Utilizzo di linguaggi specifici orientati al campo di utilizzo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Interoperabilità tra linguaggi conformi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D0EE-6F10-4F7F-80AD-3C2202EACE24}" type="slidenum">
              <a:t>6</a:t>
            </a:fld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Virtual Execution System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Il VES inoltre fornisce servizi durante l’esecuzione dei codici, che includono la gestione automatica della memoria, supporto per debugging, sandbox per la sicurezza analoghe a quelle Java e l’interoperabilità con il codice non gestito come ad esempio componenti COM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6035-39F8-430F-B887-BD198E2F1D7D}" type="slidenum">
              <a:t>60</a:t>
            </a:fld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pplication Domain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F498-6F46-4C71-9204-57811324FF14}" type="slidenum">
              <a:t>61</a:t>
            </a:fld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pplication Domain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Sono i processi leggeri del CL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Possono essere immaginati come una fusione della Sandbox di Java e del modello a Thread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Leggeri” perché </a:t>
            </a:r>
            <a:r>
              <a:rPr b="1" lang="it-IT" sz="2800" spc="-1" strike="noStrike">
                <a:solidFill>
                  <a:srgbClr val="000099"/>
                </a:solidFill>
                <a:latin typeface="Arial Narrow"/>
              </a:rPr>
              <a:t>più AD sono eseguiti in un unico processo Win32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, ma con meccanismi di sicurezza ed isolamento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DEAB-67CD-4837-AFE7-9FE7F26D0D5D}" type="slidenum">
              <a:t>62</a:t>
            </a:fld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pplication Domain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Modello di sicurezz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Controllo di sicurezza in fase di compilazion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Ogni applicazione può avere application domain multipli associata con essa, ed ognuno di questi ha un file di configurazione contenente i permessi di sicurezza. Queste informazioni di configurazione sono utilizzate dal CLR per fornire un sistema di sicurezza tipo sandbox analogo a quello presente in Java.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4CFF-1E13-4365-9F8D-BCD50AB9A230}" type="slidenum">
              <a:t>63</a:t>
            </a:fld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pplication Domain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Modello di sicurezz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Nonostante più application domain possano essere eseguiti in un unico processo, </a:t>
            </a:r>
            <a:r>
              <a:rPr b="1" lang="it-IT" sz="2800" spc="-1" strike="noStrike">
                <a:solidFill>
                  <a:srgbClr val="000099"/>
                </a:solidFill>
                <a:latin typeface="Arial Narrow"/>
              </a:rPr>
              <a:t>nessuna chiamata diretta è permessa tra metodi di oggetti presenti in differenti application domain</a:t>
            </a: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. In alternativa un meccanismo di tipo proxy è utilizzato per isolare lo spazio dei codici.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9304-8D52-40AA-9D6C-6B11FDF36E6F}" type="slidenum">
              <a:t>64</a:t>
            </a:fld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ssembly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90F3-D399-41CE-B79F-492A889F8DF2}" type="slidenum">
              <a:t>65</a:t>
            </a:fld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ssembly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È una collezione di funzionalità sviluppate e distribuite come una singola unità applicativa (uno o più fil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n pratica è una raccolta di codice compilat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Completamente autodescrittivo grazie al suo manifest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nstallazione di tipo XCOP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07B7-37A0-4801-BBCD-93A2FA196CC6}" type="slidenum">
              <a:t>66</a:t>
            </a:fld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ssembly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l manifesto è un metadato che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Stabilisce l’identità dell’assembly in termini di nome, versione, livello di condivisione tra applicazioni diverse, firma digitale. 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Definisce quali file costituiscono l’implementazione dell’assembly. 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Specifica le dipendenze in fase di compilazione da altri assembly. 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Specifica i tipi e le risorse che costituiscono l’assembly, inclusi quelli che vengono esportati dall’assembly. 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Specifica l’insieme dei permessi necessari al corretto funzionamento dell’assembly. 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09DC-F89A-4779-9209-EF0FB2BAAFC9}" type="slidenum">
              <a:t>67</a:t>
            </a:fld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ssembly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l manifesto è parte indissolubile dell’assembly ed è compreso nello stesso fil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E’ il CLR che si preoccupa che le dipendenze espresse nel manifesto siano verificate ed eventualmente si occupa di “ripararle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1690-CBF7-469B-BF3B-AF9CB6AB25CA}" type="slidenum">
              <a:t>68</a:t>
            </a:fld>
          </a:p>
        </p:txBody>
      </p: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ssembly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l runtime è in grado di eseguire due versioni diverse della stessa componente side-by-side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l runtime è in grado di rendere disponibile due versioni diverse della stessa libreri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Nessuna registrazione necessari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5F76-912F-495C-9A4E-4E2C1BF8E078}" type="slidenum">
              <a:t>69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.NET Framework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fondamenta dell’architettura .N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Architettura “Multipiattaforma”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Accessibile a qualunque piattaforma via Web Service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Disponibile per qualunque piattaforma Windows presente e futura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Scalabil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Pronto per dispositivi non strettamente informatici (cellulari,TV)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Elevato supporto per le interfacce grafiche lato client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7832-9630-45CE-9D2D-E0343C718060}" type="slidenum">
              <a:t>7</a:t>
            </a:fld>
          </a:p>
        </p:txBody>
      </p:sp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ssembly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Il CLR fornisce anche API utilizzate dai motori di scripting che creano assembly dinamici durante l’esecuzione degli script; questi assembly sono eseguiti direttamente senza essere salvati su dis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42FB-EE03-43EA-8798-56BAA6866697}" type="slidenum">
              <a:t>70</a:t>
            </a:fld>
          </a:p>
        </p:txBody>
      </p:sp>
    </p:spTree>
  </p:cSld>
  <p:transition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Assembly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Global Assembly Cach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Memoria per gli assembly “sicuri”.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Gestione riservata agli amministratori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Eseguiti fuori dalla “Sandbox”, maggiori privilegi di accesso alle risors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Downloaded Assembly Cach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Memoria per gli assembly transitori e/o “insicuri”.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Assembly esterni, ad esempio scaricati dalla rete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Eseguiti nella “Sandbox” più lenti e con minor accesso alle risors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05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258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A2F4-6EBC-466B-A2F3-7E55113370BB}" type="slidenum">
              <a:t>71</a:t>
            </a:fld>
          </a:p>
        </p:txBody>
      </p:sp>
    </p:spTree>
  </p:cSld>
  <p:transition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oncludendo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Sistema Operativ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Applicazione 1 (Processo Win32 Separato)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028520" indent="-20556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Application Domain 1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028520" indent="-20556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Application Domain 2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3" marL="1440000" indent="-20556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 Narrow"/>
              </a:rPr>
              <a:t>Assembly 1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3" marL="1440000" indent="-20556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 Narrow"/>
              </a:rPr>
              <a:t>Assembly 2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3" marL="1440000" indent="-20556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 Narrow"/>
              </a:rPr>
              <a:t>Assembly 3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668520" indent="-25704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Applicazione 2 (Processo Win32 Separato)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668520" indent="-25704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Applicazione 3 (Processo Win32 Separato)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C1FC-4097-4717-BA12-9446D8112296}" type="slidenum">
              <a:t>72</a:t>
            </a:fld>
          </a:p>
        </p:txBody>
      </p: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828800" y="1981080"/>
            <a:ext cx="5562720" cy="2667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rebuchet MS"/>
              </a:rPr>
              <a:t>The End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rebuchet MS"/>
              <a:ea typeface="Trebuchet MS"/>
            </a:endParaRPr>
          </a:p>
        </p:txBody>
      </p:sp>
      <p:sp>
        <p:nvSpPr>
          <p:cNvPr id="371" name=""/>
          <p:cNvSpPr/>
          <p:nvPr/>
        </p:nvSpPr>
        <p:spPr>
          <a:xfrm>
            <a:off x="4270680" y="54860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er ora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43FE-3FBB-4B53-897E-3BF4893AAD34}" type="slidenum">
              <a:t>73</a:t>
            </a:fld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Bibliografia e Fonti: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Microsoft: .NET Framework Evaluation Guid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http://msdn.microsoft.com/netframework/prodinfo/frameworkevalguide.asp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Microsoft .NET Framework SDK Documentation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(Inclusa nell’installazione dell’ SDK del Framework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C# Help Articl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http://www.csharphelp.com/archives/archive10.htm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MSDN Common Language Runtime overview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http://msdn.microsoft.com/library/default.asp?url=/library/en-us/cpguide/html/cpconcommonlanguageruntimeoverview.asp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A2B4-EF77-480C-B5CC-EB314D45FFB9}" type="slidenum">
              <a:t>74</a:t>
            </a:fld>
          </a:p>
        </p:txBody>
      </p:sp>
    </p:spTree>
  </p:cSld>
  <p:transition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Progetto eseguito nell’ambito del corso di “Basi di Dati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Realizzato da Carlo Becchi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Tutor del progetto: Ing. Mauro Coccoli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Docente del corso: Prof. Antonio Boccalatte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aboratorio di Informatica DIST- Siemens/ORS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http://www.lido.dist.unige.it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Aprile 200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76E0-1A23-4B4C-8421-4C995B052714}" type="slidenum">
              <a:t>75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rebuchet MS"/>
              </a:rPr>
              <a:t>.NET Framework</a:t>
            </a:r>
            <a:endParaRPr b="0" lang="en-US" sz="44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fondamenta dell’architettura .N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 Narrow"/>
              </a:rPr>
              <a:t>Sistema di comunicazione basato su XML e SOAP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Facilità di trasporto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Modello dati unificato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Interoperabilità con altri sistemi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 Narrow"/>
              </a:rPr>
              <a:t>Possibilità di rendere persistenti dati e strutture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9064-B104-4F4B-A0CD-343BB8845C11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0000"/>
                </a:solidFill>
                <a:latin typeface="Trebuchet MS"/>
              </a:rPr>
              <a:t>I tre componenti principali del Framework</a:t>
            </a:r>
            <a:endParaRPr b="0" lang="en-US" sz="3600" spc="-1" strike="noStrike">
              <a:solidFill>
                <a:srgbClr val="cc0000"/>
              </a:solidFill>
              <a:latin typeface="Trebuchet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903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E549-246F-46B3-BB6D-A79D9549A524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09:09:33Z</dcterms:created>
  <dc:creator>Carlo Becchi</dc:creator>
  <dc:description>Realizzato da Carlo Becchi (carlo.becchi@iol.it) nell'ambito del corso di Basi di Dati del Prof. A. Boccalatte</dc:description>
  <dc:language>en-US</dc:language>
  <cp:lastModifiedBy>Carlo Becchi</cp:lastModifiedBy>
  <dcterms:modified xsi:type="dcterms:W3CDTF">2002-05-28T18:27:13Z</dcterms:modified>
  <cp:revision>19</cp:revision>
  <dc:subject/>
  <dc:title>.NET Tutorial</dc:title>
</cp:coreProperties>
</file>